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924-D505-4EF0-8E4A-BA575A53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985-6EDB-42A6-A773-962F2279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147-468D-4E10-813B-66FD67B3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E64-60AE-4FDA-BE21-0946C185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107-0BD0-405E-A2A9-2E7A7C75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2CA-530F-41E8-B893-0213927C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457-D2FD-431D-88D0-DDD12870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D85-D17C-450B-AFF8-B217E5F2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FB5-58B8-47A8-B19C-B601F610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38A-11BC-4D08-B4BD-A3604033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2B0-BF4D-4837-8D52-4DF7CC56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B70-1D2D-46FE-A6A7-CDB0C65D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A395-8F52-420A-BEB8-51225ED0F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koisten sovellusten hyödyntäminen Opasnetissä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lli Le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pasnettiin tallete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433520"/>
            <a:ext cx="6781680" cy="5424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1371600"/>
            <a:ext cx="7239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629400"/>
            <a:ext cx="693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etsiminen ja selaaminen yksinkert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09880"/>
            <a:ext cx="7086600" cy="28195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3505320"/>
            <a:ext cx="137160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971800" y="2057400"/>
            <a:ext cx="76320" cy="1447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800600" y="1981080"/>
            <a:ext cx="76320" cy="1828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352680"/>
            <a:ext cx="533160" cy="2286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38080" y="2057400"/>
            <a:ext cx="15264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6629400" cy="5303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685800"/>
            <a:ext cx="74674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6019920"/>
            <a:ext cx="7010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Yksittäisen tiedosto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447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doston kaikki versiot ovat käytettävissä, ei tallentamisia päälle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6629400" cy="5303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685800"/>
            <a:ext cx="74674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019920"/>
            <a:ext cx="7010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Yksittäisen tiedosto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447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doston kaikki versiot ovat käytettävissä, ei tallentamisia päälle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581280"/>
            <a:ext cx="838080" cy="1295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657600"/>
            <a:ext cx="381240" cy="2438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04920" y="1828800"/>
            <a:ext cx="1828800" cy="1752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6827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52280"/>
            <a:ext cx="9372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0120"/>
            <a:ext cx="9372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Uuden version lataa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 versio korvaa vanhan, mutta vanha tiedostoversio säily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6827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52280"/>
            <a:ext cx="9372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620120"/>
            <a:ext cx="9372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Uuden version lataa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6095880"/>
            <a:ext cx="1905120" cy="3049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 versio korvaa vanhan, mutta vanha tiedostoversio säily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iedoston liittäminen teksti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2193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) Esim. kuva tekstin sek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7193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0666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172200"/>
            <a:ext cx="9144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kuvan liittäminen tekstiin, työkalupalkkia käyttä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624852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iedoston liittäminen teksti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2193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) Esim. kuva tekstin sek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7193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0666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172200"/>
            <a:ext cx="9144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kuvan liittäminen tekstiin, työkalupalkkia käyttä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5029200"/>
            <a:ext cx="2438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581280"/>
            <a:ext cx="381240" cy="2286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66520" y="1600200"/>
            <a:ext cx="381240" cy="1981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624852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van liittäminen teksti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880" y="5867280"/>
            <a:ext cx="8153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077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447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tetty kuva tekstin se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3200400"/>
            <a:ext cx="6933960" cy="1752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12268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Lada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534520" cy="6828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6858000"/>
            <a:ext cx="8686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762120"/>
            <a:ext cx="8686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Henkilön tekemät muutokset sivui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knisiä ohjei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lli Le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534520" cy="6828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6858000"/>
            <a:ext cx="8686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762120"/>
            <a:ext cx="8686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Henkilön tekemät muutokset sivui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1600200"/>
            <a:ext cx="761760" cy="4572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143000"/>
            <a:ext cx="1218960" cy="533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yöty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yöty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oit ladata kaikki tiedostosi yhteen paikkaan! (esim. xls, pdf, doc, g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yöty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oit ladata kaikki tiedostosi yhteen paikkaan! (esim. xls, pdf, doc, g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ääset suoraan käsittelemään tiedostoa klikkaamalla sivulla olevaa linkkiä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yöty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oit ladata kaikki tiedostosi yhteen paikkaan! (esim. xls, pdf, doc, g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ääset suoraan käsittelemään tiedostoa klikkaamalla sivulla olevaa linkkiä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ikki versiot säilyvä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yöty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oit ladata kaikki tiedostosi yhteen paikkaan! (esim. xls, pdf, doc, g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ääset suoraan käsittelemään tiedostoa klikkaamalla sivulla olevaa linkkiä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ikki versiot säilyvä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iedostot ovat kaikkien käytettävissä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fi-FI" sz="3200" spc="-1" strike="noStrike">
                <a:solidFill>
                  <a:srgbClr val="000000"/>
                </a:solidFill>
                <a:latin typeface="Arial"/>
              </a:rPr>
              <a:t>Thank you very man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Useimmmin käytettyjä sovelluk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, pps, xls, do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t, ods, odg, odf, od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n 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o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katut tiedost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gged Image File -ku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able Network Graphics -ku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phics Interchange Format -ku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g &amp; jpe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int Photographic Experts Group -ku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diotiedo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aly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iten liittää sovelluksia Opasneti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iedoston lata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6477120"/>
            <a:ext cx="7086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371600"/>
            <a:ext cx="7086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447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lataaminen help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iten liittää sovelluksia Opasneti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iedoston lata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477120"/>
            <a:ext cx="7086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71600"/>
            <a:ext cx="7086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447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lataaminen help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267080"/>
            <a:ext cx="6094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42640" y="1905120"/>
            <a:ext cx="685800" cy="2361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pasnettiin tallete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1433520"/>
            <a:ext cx="6781680" cy="542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371600"/>
            <a:ext cx="7239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629400"/>
            <a:ext cx="693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etsiminen ja selaaminen yksinkert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pasnettiin tallete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433520"/>
            <a:ext cx="6781680" cy="54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1371600"/>
            <a:ext cx="7239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629400"/>
            <a:ext cx="693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etsiminen ja selaaminen yksinkert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352680"/>
            <a:ext cx="533160" cy="2286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38080" y="2057400"/>
            <a:ext cx="15264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pasnettiin tallete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1433520"/>
            <a:ext cx="6781680" cy="5424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1371600"/>
            <a:ext cx="7239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629400"/>
            <a:ext cx="693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etsiminen ja selaaminen yksinkert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3505320"/>
            <a:ext cx="137160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71800" y="2057400"/>
            <a:ext cx="76320" cy="1447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pasnettiin tallete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1433520"/>
            <a:ext cx="6781680" cy="542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1371600"/>
            <a:ext cx="7239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629400"/>
            <a:ext cx="693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etsiminen ja selaaminen yksinkert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809880"/>
            <a:ext cx="7086600" cy="28195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800600" y="1981080"/>
            <a:ext cx="76320" cy="1828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01:19Z</dcterms:created>
  <dc:creator>olex</dc:creator>
  <dc:description/>
  <dc:language>en-US</dc:language>
  <cp:lastModifiedBy>olex</cp:lastModifiedBy>
  <dcterms:modified xsi:type="dcterms:W3CDTF">2010-02-11T13:20:43Z</dcterms:modified>
  <cp:revision>12</cp:revision>
  <dc:subject/>
  <dc:title>Ulkoisten sovellusten hyödyntäminen Opasnetissä. </dc:title>
</cp:coreProperties>
</file>